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26B4-CB74-4561-92F1-A8F08395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C0E-B5E3-447D-AC39-38F645AD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4E6-6063-4E1A-B325-82C76A25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71E-2EFB-4B43-9E7B-5F4D9DDE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50A8-8719-4EED-8919-9AAAE0DF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8CDF-8AB1-48D7-955A-669A39D7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5B87-D29E-4645-B414-F22A6F5B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1CD9-280F-4AF4-9392-7BF5513D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0CB6-65B8-4F33-AF25-C6D967DE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492F-B151-43F5-9B98-B26535D0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FC22-63F7-44AD-95C1-F4DC6A2E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CED-7A7B-4E5C-8988-47984D65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142F-0E8D-4239-B31E-A0E9ACF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BC05-0285-49F8-A5FA-043CED2F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1174-21DD-4A6B-9312-9D22D207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F512-5610-4616-96EE-B8B1053B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1793-E16A-42B7-BB4D-0BE413FB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1750-9A99-4C8C-ACFA-75931386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5552A-A3C6-4F8A-A9C4-619BAEAA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609A-19BA-4EC6-95A8-BCBBCBFD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E72F3-9882-4C63-8B0A-7F184D3C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5946-A782-47DB-AFA9-331D1E2E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F50D-AA6C-4DCA-B257-215D5F7E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E8CD-5F09-4793-B75F-775F1F77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A679-8F9C-4C7A-9714-D01B7154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B7D0-89F4-447F-93D9-27DE6ED5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28D1-09BB-416B-AAA5-7AAFAFBE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3ED8-408C-4C85-B8CB-2AF375DF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D4A8-3E35-4CD6-97BB-959A4E97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78EF9-724E-4F7F-AD07-1F119314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2293-2DD8-4E05-A5E4-85474E16A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09186-F8F1-4E75-888E-6861D1B6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9DBE2-974F-40B5-BAD6-CCDAF0D3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EE4-AD84-4DDF-8E10-8A53C57C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6579-8424-4306-A315-24262463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2FB63-90F1-4837-9F16-C8D2BCC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B51C-096D-44CE-8147-25938A18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1A500-93D4-40BE-8A9C-BA1F39CA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31118-FB45-4BA5-8B4C-CBA56534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3C4E6-A8FC-4CEA-AE59-0940B769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AD64-7E1A-4857-8BEE-1E84BA24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1A589-1901-4ADA-9A86-66310F4A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8156-22C3-4DDB-B94F-334E95FC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A34A8-B40A-4B14-8B05-D47F2D26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875-58BB-44C2-ADC0-5B02207D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AE70-29B0-46B3-AB07-CBD9B98F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27DD9-2731-4A75-861A-5FF40515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C7071-DB9F-4F11-AC8D-06806A7E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B26BF-EFC3-4823-98B7-523DF54A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6C65-137C-4C32-AD62-881BCAEA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48A8D-49BA-404A-A980-3DAE54CB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F1E1F-562E-4C36-A0FD-BC76D0E0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72274-EF84-47AE-87EC-A4D92295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8D51F-3D84-4FBD-BAB9-1FCAEBB3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B1B7F-ABF0-413E-BB54-FB94B281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3BF-D25E-4F91-A2BC-C8A65AD0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A55F2-816E-4EE8-A36B-8142D8AA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9567-CEF2-4280-95FF-4A3D119D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D6E5A-7486-426D-AE12-D447B09B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E404D-601A-416B-B98C-73137B68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37073-4325-4777-8792-ADD49AE7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BAB76-526B-4A9F-8242-ACC3EDF3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79663-1A21-4E4A-B371-C41A19FE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8EE08-8408-4DA9-9FF1-A13A0FF4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A405F-5CA7-45D3-BB9D-B356638B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E40EF-677A-4A33-AB2B-87F6CB1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D4C-A56C-4F59-8F5B-83D93243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436CC-3BEA-444B-97B7-F07ECCC0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221C1-E2AD-4C4B-8625-6D8237DB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278D-C6DD-4A6E-AE5E-6E70EA95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45ADD-B51B-4B3A-AAE5-7236E00F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C2F8-4894-4396-AE63-C15D3662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4F01E-01C8-4634-951C-0175765B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2AD49-F0CF-4FBE-9744-08F61833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BD9D4-E69C-4DA4-879B-19972E86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934C3-ACA9-49DD-A5A3-196BB326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37670-D8B7-43F8-95C9-755CC10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768-6014-422B-B064-454CD293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05F85-6EF7-4361-BDE6-5C50199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0F91C-1103-47EE-8090-31C3E179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2FB4A-9A93-4C46-B2AD-31EB117D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E4E5-3E0C-4BE7-82FC-8D86FF07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D6B10-DD68-496B-8099-F72430CF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109-6E20-4D3E-B28B-5ED40AAE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D0A7-5D74-4F74-A6BF-D41EB6679BE0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DFB2-F366-4C94-8E79-DFCAD2D37A38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3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4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4FE0-BFC9-4F32-9A04-7439E3F5DFE2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08DA-6EB1-46EB-B2F9-567B5C4C6E22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3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4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28A4-A904-4A91-83B2-3CBFD038B0D3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6F51-AF53-4BA2-BFE8-38E7BBCCBBA2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BB72-6317-43EE-8F64-125752EA6FB0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C607-4CD2-4A8D-9B02-83C87979D110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4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5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3ACB-1D5C-4908-B856-35450139C5F5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4C4C-76C0-4598-98A2-BF4728926165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4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5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934F-31B0-4DCC-8EEA-5542604CACC6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9831-A3AA-4C21-BAF3-2CEC0D81CF0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3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4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8640" indent="-27144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36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4280" indent="-1807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108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108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DCB4-1B1A-47C4-88A1-193D7AC204CB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D319-6DAC-46AA-8532-82E67EC7694A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971640" y="5373720"/>
            <a:ext cx="7272360" cy="14842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4920" y="18900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školy: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Střední zdravotnická škola a vyšší odborná škola zdravotnická Karlovy Var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 Black"/>
              </a:rPr>
              <a:t>SMR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Y_32_INOVACE_KLN.2.02a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3.11.20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utor: </a:t>
            </a:r>
            <a:r>
              <a:rPr b="1" lang="cs-CZ" sz="1800" spc="-1" strike="noStrike">
                <a:solidFill>
                  <a:srgbClr val="ffffff"/>
                </a:solidFill>
                <a:latin typeface="Arial Black"/>
              </a:rPr>
              <a:t>Veronika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Rausová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16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0" lang="cs-CZ" sz="16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2 obsahuje výklad pojmů „klinická a biologickáb smrt, diagnóza smrti, posmrtné změny“.  Na konci prezentace je souhrn otázek k procvičení a připojen  test I shrnující  1. a 2. kapitolu KLN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cs-CZ" sz="1400" spc="-1" strike="noStrike">
                <a:solidFill>
                  <a:srgbClr val="ffc800"/>
                </a:solidFill>
                <a:latin typeface="Corbel"/>
              </a:rPr>
              <a:t> </a:t>
            </a:r>
            <a:r>
              <a:rPr b="1" lang="cs-CZ" sz="1400" spc="-1" strike="noStrike">
                <a:solidFill>
                  <a:srgbClr val="ffc800"/>
                </a:solidFill>
                <a:latin typeface="Corbel"/>
              </a:rPr>
              <a:t>POSMRTNÉ ZMĚNY</a:t>
            </a:r>
            <a:endParaRPr b="1" lang="en-US" sz="14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yvíjí se v čas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fyzikál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-chemick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SMRTNÉ ZMĚNY </a:t>
            </a:r>
            <a:r>
              <a:rPr b="1" lang="cs-CZ" sz="4500" spc="-1" strike="noStrike" u="sng">
                <a:solidFill>
                  <a:srgbClr val="ffc800"/>
                </a:solidFill>
                <a:uFillTx/>
                <a:latin typeface="Corbel"/>
              </a:rPr>
              <a:t>FYZIKÁLNÍ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osmrtná bledo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ronikání plynů a tekutin tkáněm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Posmrtné skvrny (livor mortis) – proč?, kde?, jak vznikají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Chladnutí těla – proč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Tonelliho příznak  = pokud se stiskne oko dvěma prsty, je zornice oválná, pokud třemi, je trojhranná. Objevuje se hned po smrti a trvá asi 2 hodiny.Není u utopených, oběšených a u očního zákalu. Provádět tuto zkoušku smí jen lékař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Vysychán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OSMRTNÉ ZMĚNY </a:t>
            </a:r>
            <a:r>
              <a:rPr b="1" lang="cs-CZ" sz="4500" spc="-1" strike="noStrike" u="sng">
                <a:solidFill>
                  <a:srgbClr val="ffc800"/>
                </a:solidFill>
                <a:uFillTx/>
                <a:latin typeface="Corbel"/>
              </a:rPr>
              <a:t>CHEMICKÉ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Posmrtná ztuhlost (rigor mortis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dy? Jak? Proč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Asi za 2 hodiny po smrti nastává u zemřelého tuhnutí svalů od obličeje přes horní končetiny a naposledy dolních končetin. Celé tělo postihuje za 7 – 10 hodin, udržuje se desítky hodin, může být zrušena jen použitím síly a poté se již neobnoví. Podstatou jsou chemické změny ve svalech. Co z toho plyne pro zacházení s mrtvým ělem?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rážení krve – kromě případů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udušení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zmrznutí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travy CO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infekce mikroby rozpouštějící fibri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Autolýza =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amonatrávení  v těle přítomnými enzym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Hniloba  =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Způsobena mikroorganism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ekompozice</a:t>
            </a:r>
            <a:r>
              <a:rPr b="0" lang="cs-CZ" sz="1500" spc="-1" strike="noStrike">
                <a:solidFill>
                  <a:srgbClr val="000000"/>
                </a:solidFill>
                <a:latin typeface="Corbel"/>
              </a:rPr>
              <a:t> = rozklad těla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http://upload.wikimedia.org/wikipedia/commons/3/3e/%D0%9F%D1%8F%D1%82%D0%BD%D0%B0_%D1%82%D1%80%D1%83%D0%BF%D0%BD%D1%8B%D0%B5.jpg"/>
          <p:cNvPicPr/>
          <p:nvPr/>
        </p:nvPicPr>
        <p:blipFill>
          <a:blip r:embed="rId1"/>
          <a:stretch/>
        </p:blipFill>
        <p:spPr>
          <a:xfrm>
            <a:off x="755640" y="404640"/>
            <a:ext cx="5753160" cy="4305600"/>
          </a:xfrm>
          <a:prstGeom prst="rect">
            <a:avLst/>
          </a:prstGeom>
          <a:ln w="0">
            <a:noFill/>
          </a:ln>
        </p:spPr>
      </p:pic>
      <p:sp>
        <p:nvSpPr>
          <p:cNvPr id="328" name="Obdélník 4"/>
          <p:cNvSpPr/>
          <p:nvPr/>
        </p:nvSpPr>
        <p:spPr>
          <a:xfrm>
            <a:off x="900000" y="5084640"/>
            <a:ext cx="457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rbel"/>
              </a:rPr>
              <a:t>CADAVER - LIVOR MORTIS 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http://cs.wikipedia.org/wiki/Soubor:%D0%9F%D1%8F%D1%82%D0%BD%D0%B0_%D1%82%D1%80%D1%83%D0%BF%D0%BD%D1%8B%D0%B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Opaková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SMR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BIOLOGICKÁ SMR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KLINICKÁ SMR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do konstatuje smr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é posmrtné změny fyzikální a chemické lze postupně pozorovat na mrtvém těl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20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20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800" spc="-1" strike="noStrike">
                <a:solidFill>
                  <a:srgbClr val="ffc800"/>
                </a:solidFill>
                <a:latin typeface="Corbel"/>
              </a:rPr>
              <a:t>SMRT</a:t>
            </a:r>
            <a:endParaRPr b="1" lang="en-US" sz="88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Corbel"/>
              </a:rPr>
              <a:t>Zánik organismu -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Definic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Co je smr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nezvratná ztráta celovztažného uspořádání organismu po poškození životně důležitých systémů a funkc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Které to jsou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krevní oběh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dýchá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řízení oběhu a dýchání + zajištění stálosti vnitřního prostředí (příjem a výdej živin, vitamínů, minerálů a vody a jejich přemě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rbel"/>
              </a:rPr>
              <a:t>Těžké poškození některého systému (tj.krevního oběhu, vědomí, dýchání) -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rbel"/>
              </a:rPr>
              <a:t>náhlé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orbel"/>
              </a:rPr>
              <a:t>nebo postupné -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rbel"/>
              </a:rPr>
              <a:t>vede k jeho selhání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orbel"/>
              </a:rPr>
              <a:t>a ke smrti</a:t>
            </a:r>
            <a:r>
              <a:rPr b="0" lang="cs-CZ" sz="4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KLINICKÁ SMR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 krátké mezidobí mezi zástavou srdce a nevratným poškozením mozk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(Jak krátké? Na čem záleží?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= cca 5 minut – neurony jsou velmi citlivé na nedostatek kyslík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delší může být v případě nižší teploty okol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orbel"/>
              </a:rPr>
              <a:t>VYMIZENÍ PROJEVŮ ŽIVOTA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krevního oběh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dýchá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vědom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KLINICKÁ SMR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JE REVERZIBILNÍ 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= 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orbel"/>
              </a:rPr>
              <a:t>VRATNÝ STAV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=tento stav 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Corbel"/>
              </a:rPr>
              <a:t>může být resuscitací zvrácen </a:t>
            </a:r>
            <a:r>
              <a:rPr b="0" lang="cs-CZ" sz="1600" spc="-1" strike="noStrike">
                <a:solidFill>
                  <a:srgbClr val="000000"/>
                </a:solidFill>
                <a:latin typeface="Corbel"/>
              </a:rPr>
              <a:t>a pacient znovu oživen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Corbel"/>
              </a:rPr>
              <a:t>Na čem záleží úspěch resuscitace, co hraje roli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odolnost buněk, kondice pacient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teplota okolí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účinná resuscitace zahájená vča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schopnost regenerac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rbel"/>
              </a:rPr>
              <a:t>Prodělaná onemocnění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BIOLOGICKÁ SMR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lvl="1" marL="677520" indent="-2523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JE IREVERZIBILNÍ 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7520" indent="-2523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rbel"/>
              </a:rPr>
              <a:t>NEVRATNÝ STAV vedoucí k rozkladu organismu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7520" indent="-2523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7520" indent="-2523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orbel"/>
              </a:rPr>
              <a:t>=vymizení projevů života =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7520" indent="-2523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zástava krevního oběhu – jak se zjistí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7520" indent="-2523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zástava dechu – jak se zjistí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7520" indent="-25236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orbel"/>
              </a:rPr>
              <a:t>nulová aktivita CNS – jak se zjistí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23760" indent="-212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(= trvalé vymizení el. signálů mozku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23760" indent="-212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</a:rPr>
              <a:t>Tonelliho příznak = deformovatelnost zorn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DIAGNÓZA SMRTI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konstatování smrti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– kdo konstatuje smr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uze lékař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</a:t>
            </a: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určení času úmrtí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– proč? jak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(možnost odběru orgánů k transplantaci, možný důkaz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z přítomnosti posmrtných změn, stupeň rozkladu, přítomnost hmyzu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5T15:41:55Z</dcterms:created>
  <dc:creator>Veronika</dc:creator>
  <dc:description/>
  <dc:language>en-US</dc:language>
  <cp:lastModifiedBy>Chalupna</cp:lastModifiedBy>
  <dcterms:modified xsi:type="dcterms:W3CDTF">2014-03-31T20:38:19Z</dcterms:modified>
  <cp:revision>14</cp:revision>
  <dc:subject/>
  <dc:title>Snímek 1</dc:title>
</cp:coreProperties>
</file>